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31B-EFC7-4C16-B9A6-BE0C5171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38F-E1E2-4758-939A-F6836B09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74A-AB72-4A2C-BFA3-3B6391BF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500-3EF8-4DC1-93D9-9D55718D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CE02C-6F17-4C31-A5CB-0146C437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28925-E7D3-400D-A919-3DDB9206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EE010-BE41-4F70-966E-8747C7FF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4ECAB-272C-4CA1-BF54-3110043A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21905-1A3C-4448-88BF-9D2D1378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91440-2CD5-4F4E-A249-5E0CE0AF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896E5-18C1-426A-9284-EDB66A92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508-BBC9-4BF2-B107-814F77EF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DC4AB-46F3-46F3-A452-A88DC9F3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3DDE7-77CD-4F68-B0F9-02ED7E3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C3415-7DB7-443E-BF2D-6FD607AF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0357F-9C2E-40A0-86BD-D45B6646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E021B-053A-47EE-9728-CA21BA4E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F66-8F73-4D1F-81A2-253AFFFC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7F8-E5B3-41B7-A1A9-248E307F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2A7-EA15-4757-985B-5BF0F6EB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191-D024-40C4-A8BB-10027B93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460-B469-4EE7-BE65-96FFFA2C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7D5-2116-4B30-850D-C58333F2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5990-7774-429E-B9E0-7708DE42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1FF5-B4B1-491C-BA1E-2C934AB5BD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67BF-EB9A-4AC7-806D-7022BB4553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 cas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ameron Sher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pat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patio es grande, impresionante, y moder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modern backyard retreat with fancy chairs a firepit and a lap pool"/>
          <p:cNvPicPr/>
          <p:nvPr/>
        </p:nvPicPr>
        <p:blipFill>
          <a:blip r:embed="rId2"/>
          <a:stretch/>
        </p:blipFill>
        <p:spPr>
          <a:xfrm>
            <a:off x="4495680" y="2209680"/>
            <a:ext cx="48006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moderno cas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 muy lujoso y modern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272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cuar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cuarto es moderno, y grande.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38480" y="2057400"/>
            <a:ext cx="51055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sala es un moderon, lujoso, es grande.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5238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garaj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garaje  es estupendo, moderno y gran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ba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bano es modernoa, grande, y impresionant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0" y="186696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gdrd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jdrdrn es moderns, belloa, y gran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8149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cocina es moderno, bonito, y lujoso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419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comed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comedor es maderno, magnifico, y grand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2079720"/>
            <a:ext cx="438156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37:27Z</dcterms:created>
  <dc:creator>sherrcam</dc:creator>
  <dc:description/>
  <dc:language>en-US</dc:language>
  <cp:lastModifiedBy>sherrcam</cp:lastModifiedBy>
  <dcterms:modified xsi:type="dcterms:W3CDTF">2012-10-24T12:40:06Z</dcterms:modified>
  <cp:revision>8</cp:revision>
  <dc:subject/>
  <dc:title>La casa</dc:title>
</cp:coreProperties>
</file>